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71EC-6CE4-407F-B1A3-2F81A580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7BF-25D1-4231-B686-55893E65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702-5D2D-440D-AE79-CC61D718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8CF4-A0E4-4A17-9286-70E51D1B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9E24-8703-4F9C-B591-F938B58B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3060-B599-40A8-91F2-D01898A0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D150-142C-4437-9DA2-71921928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9C40-E9C4-4F13-93DA-AA430231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0C88-28D4-41D7-BA4E-1A85B4E0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2A2-1075-46F7-846D-1AC1D842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AA96-E23D-4098-B975-AA04058B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0C33-961B-456D-9E3E-C69C9162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1704-A05A-4836-B179-0994E07589C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ESSION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CIVIL W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pter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s of the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352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l government predominant over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l government takes activist role in the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tariffs, free land, national banking syst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talyst for transformation of American society in the late nineteenth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justing to Total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61760" y="152352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r defined as effort to preserve Un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th must win by destroying will to res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War: a test of societies, economies, political systems as well as arm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DIVI7233299"/>
          <p:cNvPicPr/>
          <p:nvPr/>
        </p:nvPicPr>
        <p:blipFill>
          <a:blip r:embed="rId2"/>
          <a:stretch/>
        </p:blipFill>
        <p:spPr>
          <a:xfrm>
            <a:off x="1600200" y="3124080"/>
            <a:ext cx="6400800" cy="35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eep South Sece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ederate constitution resembles U.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m to restore pre-Republican Party Un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therners hope to attract Northern states into Confede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l response to secession deb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ittenden Plan: Extend the Missouri Compromise line to the Paci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coln rejects comprom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sources of the Union and the Confederacy, 186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DIVI293"/>
          <p:cNvPicPr/>
          <p:nvPr/>
        </p:nvPicPr>
        <p:blipFill>
          <a:blip r:embed="rId2"/>
          <a:stretch/>
        </p:blipFill>
        <p:spPr>
          <a:xfrm>
            <a:off x="914400" y="2362320"/>
            <a:ext cx="8001000" cy="38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tegies and 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00240" y="15998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r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103360" y="22860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indus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r pop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vy/organized milita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ganized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ilro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onger econom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tegy was to capture capital and split South in two (Mississippi River campaig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160" y="15998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u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228600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ghting for way of lif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ew terri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tegy was to fight a defensive war (war of attrition) and get recognized by foreign nations for support of their ca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Civil War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DIVI7233303"/>
          <p:cNvPicPr/>
          <p:nvPr/>
        </p:nvPicPr>
        <p:blipFill>
          <a:blip r:embed="rId2"/>
          <a:stretch/>
        </p:blipFill>
        <p:spPr>
          <a:xfrm>
            <a:off x="2971800" y="1752480"/>
            <a:ext cx="3881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zing the Home Fro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00240" y="15998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r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723920" y="22096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raham Lincol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ands wartime pow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lares martial law (Imprisons 10,000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iefly suspends freedom of spee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spends Habeas Corpu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cription Act 1862 (draf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ance war through taxes, bonds, paper money, and private busines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840" y="15235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u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560" y="228600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fferson Dav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rned mainly with military dut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glects civilian morale, econom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orts to finance lead to runaway inf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cription Act 1862 (draf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cks influence with state gover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all War Eff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23920" y="18284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876920" y="251460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the first two years war becomes disastrou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y 1863, riots break out over Conscription A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ttle of Gettysburg in 1863 is turning point of the w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coln Emancipates slaves to help war effort (5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as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rth continues to press on until South eventually crac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18284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u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251460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first two years the South performs beautifull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ush to get support overseas does not work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conomic failure and key defeats in 1863 lead to Southern demis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uth eventually cannot keep up with war effort and surrende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s of the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se of total war was devastat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18,000 troops d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reft women seek non-domestic ro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 million African Americans free, not eq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ial workers face wartime inf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DIVI308"/>
          <p:cNvPicPr/>
          <p:nvPr/>
        </p:nvPicPr>
        <p:blipFill>
          <a:blip r:embed="rId2"/>
          <a:stretch/>
        </p:blipFill>
        <p:spPr>
          <a:xfrm>
            <a:off x="685800" y="3886200"/>
            <a:ext cx="7772400" cy="263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7:09:24Z</dcterms:created>
  <dc:creator>CMU</dc:creator>
  <dc:description/>
  <cp:keywords/>
  <dc:language>en-US</dc:language>
  <cp:lastModifiedBy>Thaddeus J. Brooks</cp:lastModifiedBy>
  <cp:lastPrinted>2011-08-16T00:38:00Z</cp:lastPrinted>
  <dcterms:modified xsi:type="dcterms:W3CDTF">2013-10-28T14:11:31Z</dcterms:modified>
  <cp:revision>19</cp:revision>
  <dc:subject/>
  <dc:title>SECESSION AND THE CIVIL WAR</dc:title>
</cp:coreProperties>
</file>